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4E5-3318-49AF-B377-60CAD493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706-AA7F-4B7B-9F9B-3416E5A4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A6A-7F7C-41D7-B6AE-917D382F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8BC-640C-4646-825E-CBF3679E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C084-6025-4919-B244-1370E072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8BDC-1C36-4851-9462-9FEEF3AE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E136-F481-4A95-A674-322C7983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22DD-D240-4C66-A585-D627AA5C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53CB-75D5-4661-9FBC-ACCA1BCD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2F94-09CF-4212-8ACC-2C947A91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F436-F7FF-44D3-B271-A654888F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EFC-F1B8-41FE-9D41-BD4EA359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E707-1870-456A-B54A-4B37002B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B540-65E9-4B54-91DD-AD52B7B0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149F-D8C0-4BBD-BE73-DE1DDD76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85B8-3107-47EA-96F3-AE491D88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1F2E-6E44-4770-A3B9-A768B4A2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B328-6EF1-4FF1-BF7E-06000794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EB04-37A7-48CA-B086-791E0D02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2390-5B4A-4EFC-B318-BF239BC7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81A9-8B3F-4B92-B26C-EF537C3B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3F07-AEFF-4617-8361-382B03CD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E9E-5B2C-4395-B3D7-3CA7F39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32A0-026B-466F-9CF4-43F7AE21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4D3C-4932-4C04-927D-A979990F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E7BF-42F1-4A23-892B-61ABF341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99D6-3DDD-4A2B-99A4-6E872CBD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8CEF-7F16-43E2-A81E-A97163BB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BBCD-BEF8-4035-A334-A4B8A184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BD6C-4115-4206-B832-B50EA52B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808-1B85-4D73-9073-A603A317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032-B79E-438A-AE08-F225A82E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DC6-C33B-4B29-BE5E-15F89F1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338-D4FD-45B0-A013-D36254C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7B7-F28D-45CD-8332-EB8D0673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042-E8AD-4CF1-A7C4-AE24300C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C213-0088-4B84-85B0-4A5EFB0E3323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130D-0D4C-489C-B8C7-35645F15611F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BA70-0DF7-4A0E-A51B-CBD2CFB14065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ЕГЭ по русскому языку, проведённого 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декабря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и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22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50920" y="-17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тражение позиции автора(К3). Отношение к позиции автора (К4). Смысловая цельность, речевая связность и последовательность изложения (К5). Точность и выразительность речи (К6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1569960"/>
          <a:ext cx="883296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3240"/>
                <a:gridCol w="776520"/>
                <a:gridCol w="696960"/>
                <a:gridCol w="720720"/>
                <a:gridCol w="72072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орфографических норм(К7). Соблюдение пунктуационных норм (К8). Соблюдение грамматических норм (К9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569960"/>
          <a:ext cx="886464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1800"/>
                <a:gridCol w="777960"/>
                <a:gridCol w="696960"/>
                <a:gridCol w="720720"/>
                <a:gridCol w="75240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речевых норм(К10). Соблюдение этических норм (К11). Соблюдение фактологической точности в фоновом материале (К12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569960"/>
          <a:ext cx="8856720" cy="5157720"/>
        </p:xfrm>
        <a:graphic>
          <a:graphicData uri="http://schemas.openxmlformats.org/drawingml/2006/table">
            <a:tbl>
              <a:tblPr/>
              <a:tblGrid>
                <a:gridCol w="514440"/>
                <a:gridCol w="2433600"/>
                <a:gridCol w="842760"/>
                <a:gridCol w="758880"/>
                <a:gridCol w="757440"/>
                <a:gridCol w="931680"/>
                <a:gridCol w="835200"/>
                <a:gridCol w="861840"/>
                <a:gridCol w="9208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оцент выполнения заданий </a:t>
            </a:r>
            <a:br>
              <a:rPr sz="3200"/>
            </a:b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29 марта 2022 года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68" name="Объект 5"/>
          <p:cNvGraphicFramePr/>
          <p:nvPr/>
        </p:nvGraphicFramePr>
        <p:xfrm>
          <a:off x="406440" y="1001880"/>
          <a:ext cx="8331120" cy="53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001880"/>
                    <a:ext cx="8331120" cy="53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1" name="Объект 8"/>
          <p:cNvGraphicFramePr/>
          <p:nvPr/>
        </p:nvGraphicFramePr>
        <p:xfrm>
          <a:off x="406440" y="1146240"/>
          <a:ext cx="8331120" cy="52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146240"/>
                    <a:ext cx="833112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Объект 6"/>
          <p:cNvGraphicFramePr/>
          <p:nvPr/>
        </p:nvGraphicFramePr>
        <p:xfrm>
          <a:off x="406440" y="654120"/>
          <a:ext cx="8331120" cy="57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654120"/>
                    <a:ext cx="8331120" cy="57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6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9" name="Объект 5"/>
          <p:cNvGraphicFramePr/>
          <p:nvPr/>
        </p:nvGraphicFramePr>
        <p:xfrm>
          <a:off x="406440" y="1290600"/>
          <a:ext cx="83311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90600"/>
                    <a:ext cx="83311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2" name="Объект 5"/>
          <p:cNvGraphicFramePr/>
          <p:nvPr/>
        </p:nvGraphicFramePr>
        <p:xfrm>
          <a:off x="406440" y="1433520"/>
          <a:ext cx="8331120" cy="49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433520"/>
                    <a:ext cx="83311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Формулировка проблемы исходного текста (К1), </a:t>
            </a:r>
            <a:br>
              <a:rPr sz="2000"/>
            </a:b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комментарий к сформулированной проблеме (К2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5" name="Объект 5"/>
          <p:cNvGraphicFramePr/>
          <p:nvPr/>
        </p:nvGraphicFramePr>
        <p:xfrm>
          <a:off x="406440" y="1577880"/>
          <a:ext cx="833112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77880"/>
                    <a:ext cx="8331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ЕГЭ по русскому языку приняли участ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59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(40) 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еловек  из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11( 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общеобразовательных учреждений 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Авторская позиция (А3), отношение к авторской позиции (К4), смысловая цельность, речевая связность и последовательность изложения (К5), </a:t>
            </a:r>
            <a:br>
              <a:rPr sz="1800"/>
            </a:b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точность и выразительность речи (К6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8" name="Объект 5"/>
          <p:cNvGraphicFramePr/>
          <p:nvPr/>
        </p:nvGraphicFramePr>
        <p:xfrm>
          <a:off x="406440" y="1506600"/>
          <a:ext cx="8331120" cy="48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06600"/>
                    <a:ext cx="83311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Орфографические нормы (К7), пунктуационные нормы (К8), грамматические нормы (К9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1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Речевые нормы (К10), этические нормы (К11), фактическая точность (К12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4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роцент выполнения работы выглядит 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5880" y="2349360"/>
          <a:ext cx="8229600" cy="3718080"/>
        </p:xfrm>
        <a:graphic>
          <a:graphicData uri="http://schemas.openxmlformats.org/drawingml/2006/table">
            <a:tbl>
              <a:tblPr/>
              <a:tblGrid>
                <a:gridCol w="4337280"/>
                <a:gridCol w="38923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порог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нее 16 балло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 (2) ученика (5,1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(12) учеников (28,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(24) ученика (55,9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 и боле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2)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(10,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692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личество баллов (первичных), набр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чащимися в разрезе ш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557360"/>
          <a:ext cx="8713800" cy="5122800"/>
        </p:xfrm>
        <a:graphic>
          <a:graphicData uri="http://schemas.openxmlformats.org/drawingml/2006/table">
            <a:tbl>
              <a:tblPr/>
              <a:tblGrid>
                <a:gridCol w="3490920"/>
                <a:gridCol w="1785960"/>
                <a:gridCol w="844560"/>
                <a:gridCol w="863640"/>
                <a:gridCol w="865080"/>
                <a:gridCol w="863640"/>
              </a:tblGrid>
              <a:tr h="87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-29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8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юш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.Моркваш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08000" y="0"/>
            <a:ext cx="92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тилистический анализ текста. Средства связи предло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ое значение слова. Орфоэ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ие нормы. Грамматические нормы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5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1569960"/>
          <a:ext cx="8856720" cy="502776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792360"/>
                <a:gridCol w="792000"/>
                <a:gridCol w="792000"/>
                <a:gridCol w="792360"/>
                <a:gridCol w="792000"/>
                <a:gridCol w="792360"/>
                <a:gridCol w="792000"/>
                <a:gridCol w="792360"/>
              </a:tblGrid>
              <a:tr h="5540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10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рф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936720"/>
                <a:gridCol w="863640"/>
                <a:gridCol w="792000"/>
                <a:gridCol w="936720"/>
                <a:gridCol w="863640"/>
                <a:gridCol w="865080"/>
                <a:gridCol w="86364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69960"/>
          <a:ext cx="8856720" cy="5118120"/>
        </p:xfrm>
        <a:graphic>
          <a:graphicData uri="http://schemas.openxmlformats.org/drawingml/2006/table">
            <a:tbl>
              <a:tblPr/>
              <a:tblGrid>
                <a:gridCol w="457200"/>
                <a:gridCol w="2125440"/>
                <a:gridCol w="1254240"/>
                <a:gridCol w="1033560"/>
                <a:gridCol w="1181160"/>
                <a:gridCol w="885600"/>
                <a:gridCol w="1033560"/>
                <a:gridCol w="88596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8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 Анализ текста. Содержание текста, типы речи, значение слов, средства связи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редства выразительности речи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4 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289240"/>
                <a:gridCol w="1368360"/>
                <a:gridCol w="1224000"/>
                <a:gridCol w="1297080"/>
                <a:gridCol w="1008000"/>
                <a:gridCol w="100800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7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Формулировка проблем исходного текста (К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омментарий к сформулированной проблеме исходного текста (К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8000" y="1569960"/>
          <a:ext cx="8709120" cy="4956120"/>
        </p:xfrm>
        <a:graphic>
          <a:graphicData uri="http://schemas.openxmlformats.org/drawingml/2006/table">
            <a:tbl>
              <a:tblPr/>
              <a:tblGrid>
                <a:gridCol w="439560"/>
                <a:gridCol w="2079720"/>
                <a:gridCol w="720720"/>
                <a:gridCol w="647640"/>
                <a:gridCol w="647640"/>
                <a:gridCol w="720720"/>
                <a:gridCol w="720720"/>
                <a:gridCol w="792360"/>
                <a:gridCol w="647640"/>
                <a:gridCol w="706320"/>
                <a:gridCol w="5860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user</cp:lastModifiedBy>
  <dcterms:modified xsi:type="dcterms:W3CDTF">2022-04-14T19:11:33Z</dcterms:modified>
  <cp:revision>205</cp:revision>
  <dc:subject/>
  <dc:title>Этапы компьютерного моделирования</dc:title>
</cp:coreProperties>
</file>